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DBE2-A90C-4D60-B9FD-4C399B2A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6CEE-5C88-4F5F-8B41-05562D20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68DA-682B-4F2D-B491-5444AD00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1A16-B3D1-4263-8677-4F471D34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2408-0CFB-42AA-889D-D99E34C0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FD9C-A297-4362-A4AA-3C37C09B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4A29-A227-4993-A2FA-F31597A0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2E24-14EB-4E60-9862-0579150A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F8FF-4D5D-421D-A1E6-D156BFB8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F88-182C-4A19-8EE1-E4FDFE77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8E72-52E4-4729-91D7-F758BA3B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B612-553F-490C-BDC7-C547E810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4697-F91A-49C6-AB3E-72081CC95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57 Tvojím chcem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rahý 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vojím</a:t>
            </a: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</a:t>
            </a: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yť</a:t>
            </a: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,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rahý</a:t>
            </a: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</a:t>
            </a: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4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rdce moje zmocni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v ňom stále túžba plani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ľadieť vierou k nebe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aždej chvíli, v každej chvíl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stálym zdrojom sil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aždej chvíli, v každej chví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môj premil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je rúcho nie je čist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bohý je odev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ím ráč ma odiať, Kris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a vzývam, chcem byť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aždej chvíli, v každej chvíl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stálym zdrojom sil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aždej chvíli, v každej chví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môj premil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tebou môžem kráčať smel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ch ma zvádz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om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mi vodcom v žití cel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eba sa spolieh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aždej chvíli, v každej chvíl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stálym zdrojom sil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aždej chvíli, v každej chví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môj premil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keď neviem, čo ma čak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ť, a či trápe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čo mal by som sa ľakať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moje spas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aždej chvíli, v každej chvíl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stálym zdrojom sil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aždej chvíli, v každej chví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môj premilý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0T10:14:10Z</dcterms:modified>
  <cp:revision>21</cp:revision>
  <dc:subject/>
  <dc:title>Je veľký náš Pán, on slávy je Kráľ Nech do všetkých strán  spev vrúcnych znie chvál.</dc:title>
</cp:coreProperties>
</file>